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3400C-3906-4B00-8669-BAAA1C352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8EC85-808F-401A-9E26-B01FCBAC0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E667AD4-681F-4D7F-A042-A7D75C543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6ADB1-A02B-4E0B-9406-0C8A1FC6D8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9236A-6473-430E-85B1-31045A3CD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16EA253-347B-48F8-AC24-87B4C6055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Поље индукције 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1-100 м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јвећи број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АЦИОНАРН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ОМЕНЉИВ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МП који се корист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 терапијске сврхе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ди у овом опсегу индукција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Поље индукције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˃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 100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m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Ф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нкционишу као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улсни магнетни стимулато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с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високим нивоом магнетне индукциј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; због изузетно високе густине ЕМ поља, може у току стимулације да изазове и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мишићну контракциј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ебна погодност примене ових апарата је код: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спореног стварања калуса; остеопорозе; свих болних синдрома; пострауматских стања и спортских повреда; реуматских болесник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(и запаљенски, и дегенер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BFDE4-F5DA-499C-B67B-E5C3C0E3C2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44E6F-3BBF-44C0-896B-114A04916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9C7C098-5427-46C4-B5D0-B5E320767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C1FF6-11EA-451F-8C4D-978290FF6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15DBF47-4E5E-4FC0-85DF-72D5BF3D2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71D53-B9E1-457F-83E7-009924470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3CBC74B-1617-45A1-8578-6874349C8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4D3BD-8319-4C08-94A7-15668ADC6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9480889-5FDA-452B-9200-E41AE22B1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248B9-B838-4C9C-B769-FF140A80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64B854C-4EE0-4BE0-A73D-6BCBE2AB2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5539D-3A2E-4196-8A90-7E29D74E2E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60201-9B4D-41DA-9123-E339FFA32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4D4B6AB-806A-4012-981C-1D4B4EDB8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82CD7-F99F-4D61-8811-0C964E4E8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651C9A1-CC4D-4499-85AD-A2004ADCD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563EC-6BF1-4418-9E06-DAC990FA0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13A8906-AD73-403D-A836-39F75CE48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99836-1ECD-4B56-A064-AF8A2A26C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30320A4C-42D4-4A64-A611-2709ED48F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F554C-7443-4E37-BEEE-9C614249CD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CD4A8-BCA6-464B-A0D3-9804A37F4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6679805-E9E0-4572-A67D-F0217CA9B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F292E-B50D-43AD-82CA-56EC83BD7D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C3EF2-7D0B-43A4-9040-68DAD55B9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4FBB871-E67D-4A5E-9B55-AE2E95914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60EAF-4E34-451F-B831-2C2D5512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AF970FE-58A6-4F49-812F-0A450ED1B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B3245-A526-4C25-9950-16CC787C6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417B113-5490-4D3C-B71D-F2C065B5A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866F0-922F-4B7D-A3C2-D81B71BB80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A00C7-0241-4E6C-AB89-BA4989CBF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156A5A6-C696-443B-8EE8-2CF8E5527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1AC6D-A52A-4717-A01D-0075707D6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2972F29-C59A-48C9-A5CF-361CC8111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609CD-7A9D-41EC-A5CC-EAA47C7E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B4FCEAC-6C1F-4051-B998-4443742AF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EC0D1-3457-4BED-8A4B-5851A8E7A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F71AA15-E0F2-4255-8E3C-92E54694D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54D03-BC64-48B8-8B03-2C3C996D98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4A1CD-94F1-42F7-85AC-394A2E633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565563D-A1BA-485C-B350-EDDBC8CF0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26656-AB0F-4EDE-9D45-6197D14E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FB26227-96C0-4835-94E3-46AB0A3EB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0C220-B294-489A-BC00-E187F2B0B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95FF3CE-4284-44A3-9B29-533372A47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E57B1-ED45-47F2-931F-DAA67DA300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D9B32-FC34-4182-91CB-4BACF9031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FCED419-2419-48CC-8BD8-F0C119243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E1958-4C95-487C-B220-D0B2788B34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2D3BF-265B-40F0-8CB2-2EEC5E218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EFF2F9B-CE5A-4182-A0DB-05B75D636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B515E-3CDD-4089-BD00-CF4C113730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B8030-F362-42E0-B1F4-364C5B1A0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37A0A7DE-933F-4D98-81D0-52AD46569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6842C-03EF-4934-80E0-59BCB7483C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6F2A1-03EB-4D8D-8886-548028C7B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801C0D0-FBC6-489B-A0FC-69CBEBE85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DAD14-2D75-4E10-B5A8-383F4F0554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0FED7-FF05-4060-956A-4A1C580D0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273629F-BFD6-4D72-ADD7-1886AFB07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431D8-49E5-4EA9-BD57-2B53378053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E48BB-D803-4A2B-A184-62DA3505B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920DE80-FE4F-48FE-9704-F0182DDCF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D8FE9-DCEB-42C5-B5C1-D463775219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7E3A8-F18C-43A3-AEFC-0F968041C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D73CD06-439B-4DB9-9571-8913CF2B7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AF491-318E-45A5-A70B-B0D43DB7B4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6BFE8-B4C2-4071-AD10-BD06DFBD0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F74186F-B3D5-431E-9B76-9DDE9EE61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F9F93-C699-44CE-9FB5-7B1C0B45C9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DFC1B-573E-4767-B78A-1604E96DB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D651149-F7EB-4303-8255-4441626C0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C9CD8-6550-4213-A2C2-7B5E386E24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665F5-6E50-4CD8-A9BF-6B3CE8D59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7173917-7736-4229-9E45-7E7C1137B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E1A57-4396-4FD3-8D8D-2005E5F082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4ECAA-848C-409E-877F-639ECFAB3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CC3D616-5ADD-4325-9F08-5931621DA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50EF8-E34E-48C9-BDFE-36ECFD1017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D51D7-AB85-4B42-BDFA-F6264ABD2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918AB92-A3F7-4F7A-8A98-A426F6654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FDE86-D604-410C-9529-171FFFEA01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F5B8D-FCC3-4C90-947D-8B70170F1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B412CD7-2740-4B3B-B922-8A0C88614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5BED3-C550-4B7A-A599-8F0C0A2ED4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8E3CF-C339-4958-A6C1-F0AAB85C5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3AD5A92-F49B-4ABA-A247-E381AA241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0CBB7-FA13-4DBA-BF18-225815552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17ABC0D-A0A8-4516-B35D-93956B8B1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50A32-3BC4-4AFD-9F33-1DA8E72A2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48C319A-835B-433D-B976-FEDAC21CA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86536-07A0-439C-8A20-2DCC57E3C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9D03ED2-0141-4F33-9C33-79950993B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037AF-76F3-40B3-9F6B-5DDD610E0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20B9FA2-8B19-47FC-A0AE-3D1BC9D4D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E1C75-6CE3-4AE8-94DE-23F1E5B16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5A00983-0763-435D-82D5-25B0A87FD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31004-5AF2-4CDF-8399-3A3B68834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AF97C2D-F276-49A1-A097-FB1EE0EF7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6106A-B04C-4EFA-A042-85F19ADBD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63D4197-7139-4280-BF3C-C1E8C6391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6575E-2F0A-4F06-916E-802333F3C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B294B62-29FF-43F2-B120-6BB7A4502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2D64B-D178-4E28-BABB-79D5A2C33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E22B886-90F2-4765-8FC1-3F7C99001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FA685-05CE-482C-BA6E-E8132402B2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B7B30-219D-44C7-A146-50EA8AA84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BF12C73-E525-4DCD-A1FB-8D62726FD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3D4F0-3A5B-485E-B99A-E9A5CC8EE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5302E9F-B356-4E4E-BB42-745966885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3A93F-5761-407F-BAFA-B74C3DA2D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954D84C-A0D3-4B48-A4CB-9598554A7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E9D70-A7EA-4F2D-8553-5D87CF7EA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E52C2AD-CAEB-4200-BF0E-5658B3B38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5EF76-D5A5-48AD-A078-B01EBE8858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0480"/>
                <a:tab algn="r" pos="869004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0C31D0CD-D15C-4C98-8064-0C4A486CC2F2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0480"/>
                <a:tab algn="r" pos="869004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47D96EDC-9AFD-427A-8566-D0D7BC19591B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Line 2"/>
          <p:cNvSpPr/>
          <p:nvPr/>
        </p:nvSpPr>
        <p:spPr>
          <a:xfrm>
            <a:off x="457200" y="1341360"/>
            <a:ext cx="8143920" cy="180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9360" y="4662360"/>
            <a:ext cx="9134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3760" y="2611440"/>
            <a:ext cx="913464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1584360" cy="205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escription of magnetotherapy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457200" y="1484280"/>
            <a:ext cx="8435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gnetic induction 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sr-Latn-CS" sz="2200" spc="-1" strike="noStrike">
                <a:solidFill>
                  <a:srgbClr val="ff0000"/>
                </a:solidFill>
                <a:latin typeface="Verdana"/>
              </a:rPr>
              <a:t>mT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according to international norms: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ow-frequ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10-30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igh-frequ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0,5-1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requency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 (</a:t>
            </a:r>
            <a:r>
              <a:rPr b="1" lang="sr-Latn-CS" sz="2200" spc="-1" strike="noStrike">
                <a:solidFill>
                  <a:srgbClr val="ff0000"/>
                </a:solidFill>
                <a:latin typeface="Verdana"/>
              </a:rPr>
              <a:t>Hz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the choice depends on indication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ength of procedu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1 Тh unit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3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umber of procedure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 series: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nlimi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ute condi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er induction, lower ⱱ, shorter duration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ronic condi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igger induction, higher ⱱ, longer duratio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0000c"/>
                </a:solidFill>
                <a:latin typeface="Verdana"/>
              </a:rPr>
              <a:t>Indication area depending on the frequen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457200" y="1484280"/>
            <a:ext cx="8140680" cy="5113080"/>
            <a:chOff x="457200" y="1484280"/>
            <a:chExt cx="8140680" cy="5113080"/>
          </a:xfrm>
        </p:grpSpPr>
        <p:sp>
          <p:nvSpPr>
            <p:cNvPr id="119" name="Rectangle 3"/>
            <p:cNvSpPr/>
            <p:nvPr/>
          </p:nvSpPr>
          <p:spPr>
            <a:xfrm>
              <a:off x="457200" y="1484280"/>
              <a:ext cx="2158920" cy="35712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Verdana"/>
                </a:rPr>
                <a:t>FREQUENCY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2627280" y="1484280"/>
              <a:ext cx="5961240" cy="35712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Verdana"/>
                </a:rPr>
                <a:t>INDICAT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457200" y="185040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2627280" y="185040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All types of inflammation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7200" y="2215080"/>
              <a:ext cx="215892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4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2627280" y="2215080"/>
              <a:ext cx="596124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Bronchitis; Sleep disorder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457200" y="258012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6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2627280" y="258012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Hypertens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457200" y="294660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2627280" y="294660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Migraine; Poor circulat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457200" y="331308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11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2627280" y="331308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Gynecological complaint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457200" y="367632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2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2627280" y="367632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Wound healing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457200" y="4041000"/>
              <a:ext cx="2158920" cy="62136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8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2627280" y="4041000"/>
              <a:ext cx="5961240" cy="62136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Degenerative rheumatism; Extra-articular rheumatism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457200" y="4671720"/>
              <a:ext cx="215892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2627280" y="4671720"/>
              <a:ext cx="596124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Post-traumatic condition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457200" y="503820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7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2627280" y="503820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Delayed fracture healing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457200" y="540324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16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2627280" y="540324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Myositis, tendinitis, myalgia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457200" y="576972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32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2627280" y="576972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Lymphedema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457200" y="613404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64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2638440" y="6134040"/>
              <a:ext cx="5948280" cy="4633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Post-traumatic conditions; Degenerative rheumatism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262728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>
              <a:off x="457200" y="1850400"/>
              <a:ext cx="81313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457200" y="22150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457200" y="25801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457200" y="29466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>
              <a:off x="457200" y="33130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457200" y="36763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Line 36"/>
            <p:cNvSpPr/>
            <p:nvPr/>
          </p:nvSpPr>
          <p:spPr>
            <a:xfrm>
              <a:off x="457200" y="40410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457200" y="46717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>
              <a:off x="457200" y="50382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>
              <a:off x="457200" y="540324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Line 40"/>
            <p:cNvSpPr/>
            <p:nvPr/>
          </p:nvSpPr>
          <p:spPr>
            <a:xfrm>
              <a:off x="457200" y="57697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457200" y="613404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>
              <a:off x="45720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859788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Line 44"/>
            <p:cNvSpPr/>
            <p:nvPr/>
          </p:nvSpPr>
          <p:spPr>
            <a:xfrm>
              <a:off x="457200" y="14842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457200" y="65005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lam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rinary tract infe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str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p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ndovagin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theomyel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heumatic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lammatory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)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st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ood flow disor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4508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ipheral blood flow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nau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g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18669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Neurological  dis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7200" y="2637000"/>
            <a:ext cx="40402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ipheral motor neuron le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yopath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ntral motor neuron le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heumatic diseas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egenrative, extra-articular, inflammator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356000" y="1903320"/>
            <a:ext cx="464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t-traumatic condi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ft-tissue injur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ne fractu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t-traumatic ede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t-traumatic pa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mplanted cardiac pace-make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due to interference with other electronic devices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only absolute contraindication!!!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cute deterioration of vital functions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the only absolute contraindication!!!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gnancy 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of the possibility of rapid partition of the embryonic tissue and because of changes in the blood flow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during growth peri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Јuvenile diabet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thyroid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tubercul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Serious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circulatory problems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which include atherosclerosis and thromb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type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um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of the direct effect of MF on the cell growth, but also because of promotive thermal effect on proliferation of many malignant cells;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eatment of rheumatoid artriti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 strong high-frequency fields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-30МHz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leads 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ep tissu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ting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ctivation of the enzyme collagenas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affect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breakdown of cartill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treated joi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dvantag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365040" y="137160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mmediate application decreases time of the treat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umerous indic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 small number of contraindication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ynerg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on-contact method (clothes, plaster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thermal (metal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TC, PTG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One antenna for two pati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isadvantag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umans do not have receptors for M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Milder effect – longer trea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Various effects in pati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Lack of liter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ocedure ris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It requires careful dos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can cause complications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in case of an inadequate dos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F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0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T–1 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ⱱ=50–60 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airement of the organism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uring application of Мтh, radiation therapy is forbidden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ot above the carotid sinu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aution in occlusive arterial disease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aution in: nephrolythiasis and urolythiasi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ide-effects of М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: sedation, mild anxiety and disturbance of daily bioloical rhythm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-36360" y="4226040"/>
            <a:ext cx="93056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LASER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52280" y="2427120"/>
            <a:ext cx="9134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The use of constant and variable magnetic field for the purposes of prevention, treatment and rehabilitation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The use of different types of magnetic field, which by having an effect on the patient's tissue cause different therapeutic effects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is important to select the type, dose and method of magnetotherapy that will successfully interfere with the magnetic biopotential of an individual and their geomagnetic fiel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Djurovic, 2014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Magnetis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a phenomenon which allows objects to attract or repel each oth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EFINITION OF LASER L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ght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plification by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imulated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ssion of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di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rce of a very focused beam of coherent monochromatic 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pontaneous and stimulated radiation (photon emmis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Characteristics of laser l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704880" y="2108160"/>
            <a:ext cx="4329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Coheren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all photons in the same phase, of the same E and the same direction of spread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Monochroma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one colo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Directionality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minimal diffra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rcRect l="46072" t="0" r="9253" b="50023"/>
          <a:stretch/>
        </p:blipFill>
        <p:spPr>
          <a:xfrm>
            <a:off x="5370480" y="1498680"/>
            <a:ext cx="32590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"/>
          <p:cNvGrpSpPr/>
          <p:nvPr/>
        </p:nvGrpSpPr>
        <p:grpSpPr>
          <a:xfrm>
            <a:off x="5303880" y="3017880"/>
            <a:ext cx="3686040" cy="2741400"/>
            <a:chOff x="5303880" y="3017880"/>
            <a:chExt cx="3686040" cy="2741400"/>
          </a:xfrm>
        </p:grpSpPr>
        <p:pic>
          <p:nvPicPr>
            <p:cNvPr id="194" name="Picture 5" descr=""/>
            <p:cNvPicPr/>
            <p:nvPr/>
          </p:nvPicPr>
          <p:blipFill>
            <a:blip r:embed="rId2"/>
            <a:stretch/>
          </p:blipFill>
          <p:spPr>
            <a:xfrm>
              <a:off x="5303880" y="3017880"/>
              <a:ext cx="338148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7524720" y="3227400"/>
              <a:ext cx="125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aser ligh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7578720" y="4246560"/>
              <a:ext cx="1411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rmal ligh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Basic elements of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rcRect l="1371" t="14983" r="1638" b="3322"/>
          <a:stretch/>
        </p:blipFill>
        <p:spPr>
          <a:xfrm>
            <a:off x="1428840" y="2357280"/>
            <a:ext cx="6286320" cy="32864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2143080" y="300024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71760" y="2428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313280" y="2625840"/>
            <a:ext cx="138636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Imperme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mirro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916360" y="2643120"/>
            <a:ext cx="21286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Laser pump (source of energy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5072040" y="2533680"/>
            <a:ext cx="185724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Semi-permeable mirror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714760" y="4286160"/>
            <a:ext cx="25714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Active medium in the resonance box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6858000" y="3643200"/>
            <a:ext cx="1571760" cy="38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LASER BEA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TYPES OF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According to wavelength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9280" y="2421000"/>
            <a:ext cx="44658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visible light from 400-78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invisible light fr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80-150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On the basis of the active materia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014800" y="2349360"/>
            <a:ext cx="36720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olid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Flu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Ga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mi-conduct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Types of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According to the way of emiss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ontinuo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mpul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According to excitation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4665600" y="242100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Optic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the use of self-dischar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Electroioniz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Therm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hemic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Recombin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Lasers in medic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95280" y="134136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ith coagulative effe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&lt; 6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urgic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rapeutic (biostimulativ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6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1100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Lasers with COAGULATIVE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468360" y="141300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</a:rPr>
              <a:t>&lt; 600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Absorbed in pigments (melanin and hemoglobi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Accumulate Е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activate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r –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stop bleeding and obliterate small blood vessels (eye, skin, retina), tattoo removal, removal of the nevi, veruce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To stop bleeding in the digestive system, remove polypes and neoplasms of the digestive system, respiratory and urogenital system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Argon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Neodium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URGICAL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&gt;1100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sorbed in water, instant evapor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ser scalpel”: bloodless, narrow, sterile inci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surgical treatments of the parenchymal organs,  in purulent diseases, malignant diseases and coagulation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2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herapeutic (biostimulative)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од 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600-1100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Lasers of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low power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cold lasers);”soft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ome of them have only one, and some have more than one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of the outpu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is slightly absorbed in water and pigments, thus the tissue penetration is deeper – biostimula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Helium-ne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He-Ne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galium-arsen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Ga-As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semi-conducto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echanism of action of biostimulative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exact mechanism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as not been yet completely determine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although there is very intensive research being done in this field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All effects of the laserotherapy can be divided into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rimar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r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direc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ndirec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istory of the use of magnetic fiel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500040" y="1484280"/>
            <a:ext cx="814392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reek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(province Magnesia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l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gyptians, the Chine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VIII century Glaisault 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artificial magne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e No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was the first to present artificial magnets to the medical worl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Majority of European countries 1960-198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the USA in the 80's — devices for therapeutic purpo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Slovenia (Maribor) for the first time in physical medic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IMARY (DIRECT)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 Biochemical effec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Activ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enzyme substances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neurotransmitt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Releas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colloid substa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 Bioelectric eff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Normalization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membranous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the cel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 Bioenergetic eff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timul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ATP synthe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stimulation of energetic proces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74680"/>
            <a:ext cx="7570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RECT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457200" y="1484280"/>
            <a:ext cx="8143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se from the primary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crocirc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the cellular excahnge of materia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imulation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ellular metabol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GENERAL THERAPEUTIC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se from the described biological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alges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i-inflammato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i-edemato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omod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1. Analgesic effect of lasertotherapy - mechan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ies the releas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ators of inflamm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histamin, IL-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radikinin, PG-E2, TNF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bstance P)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es “rapid” А-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ber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dulates “gate control“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chanism of pain impulse transmission in the posterior horns of the spinal cord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rve conductibilit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stimulates produc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dogenous opioid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enkephalins and endorphin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u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yperpolariz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the cellular membrane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in treshol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1. Analgesic effect of laserotherapy - mechan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otherapy has a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direct effec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 pain reduc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muscl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a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ircul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blood and lymph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s or eliminat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ema and ischemi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tissues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gogenous substa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2. Anti-inflammatory and </a:t>
            </a:r>
            <a:br>
              <a:rPr sz="2800"/>
            </a:b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3. Antiedematous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es the releas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ators of inflam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(histamin, IL-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radikinin, PG-E2, TNF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bstance P)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ircul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blood and lymph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sorption of extravasate and elimination of metabolite; reduction of edema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es unspecific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umoral defen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ncrease of the synthesis of complements, lysosomes and interpheron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of phagocyte activity of neutrophil Le and macrophag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tivation of Т and B lymphocyt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457200" y="274680"/>
            <a:ext cx="8002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4. Biomodulation (biostimulative) effect of laser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exchang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ugh the cellular membrane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tos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ynthesis of DNA and RN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hesi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АТP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mitochondrias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hesi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llag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number of collagen fibers,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the effect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zym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the basal epithelial lay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 techniqu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457200" y="1413000"/>
            <a:ext cx="61308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canning 15-3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 grip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poi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Laseropuncture (over the reflexogenic zon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-1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spasmolytic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 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algesic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300-600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stimulative effect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око 6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tiedematou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00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ti-inflammatory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recommended doses which are reduced by 30% after 3 - 5 day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Output po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5 - 10 mW by acupunct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50 - 70 mW scann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radiation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W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–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ength of radiation directed at a certain surface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important for achieving a biological e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DOS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(density of Е)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from 0,01 – 10 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Microsoft YaHei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stimulative effect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 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Microsoft YaHei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inhibitory e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DURATION TIM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- 10 min, maxim. 30 m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ourc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4000" y="1484280"/>
            <a:ext cx="82771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constant magnetic fiel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natural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magnetopho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orseshoe magne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electromagnetic fiel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apparatus) which is created around the conductor when electricity flows through i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low-frequency 2-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igh-frequency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772400" y="4206960"/>
            <a:ext cx="1249200" cy="251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7164360" y="2637000"/>
            <a:ext cx="14400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Final effect of 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457200" y="1484280"/>
            <a:ext cx="82915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Final effect of therapy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s significantly determined b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224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it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application,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Method of radiation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of the aimed tissue,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numb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an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frequen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procedures, as well 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athological substrate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eing affecte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84960" y="5373720"/>
            <a:ext cx="1585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Radiation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442840" y="5376960"/>
            <a:ext cx="1585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Tissu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50" name="AutoShape 5"/>
          <p:cNvCxnSpPr>
            <a:stCxn id="249" idx="1"/>
          </p:cNvCxnSpPr>
          <p:nvPr/>
        </p:nvCxnSpPr>
        <p:spPr>
          <a:xfrm flipH="1">
            <a:off x="4903200" y="5651280"/>
            <a:ext cx="454680" cy="1362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1" name="AutoShape 6"/>
          <p:cNvCxnSpPr>
            <a:endCxn id="249" idx="1"/>
          </p:cNvCxnSpPr>
          <p:nvPr/>
        </p:nvCxnSpPr>
        <p:spPr>
          <a:xfrm flipV="1">
            <a:off x="2555640" y="5651640"/>
            <a:ext cx="2802600" cy="133560"/>
          </a:xfrm>
          <a:prstGeom prst="straightConnector1">
            <a:avLst/>
          </a:prstGeom>
          <a:ln cap="sq" w="38160">
            <a:solidFill>
              <a:srgbClr val="f0000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2" name="AutoShape 7"/>
          <p:cNvCxnSpPr>
            <a:endCxn id="249" idx="1"/>
          </p:cNvCxnSpPr>
          <p:nvPr/>
        </p:nvCxnSpPr>
        <p:spPr>
          <a:xfrm flipV="1">
            <a:off x="5130360" y="5651280"/>
            <a:ext cx="2293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253" name="Text Box 8"/>
          <p:cNvSpPr/>
          <p:nvPr/>
        </p:nvSpPr>
        <p:spPr>
          <a:xfrm>
            <a:off x="3189960" y="5423040"/>
            <a:ext cx="1155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ynam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108600" y="5811840"/>
            <a:ext cx="14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a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685800" y="2781360"/>
            <a:ext cx="7772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HIGH-INTENSITY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LASER THERAPY</a:t>
            </a:r>
            <a:br>
              <a:rPr sz="2800"/>
            </a:b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- HI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High-intensity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Output pow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on averag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30-50 times high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comparison with conventional “cold“ therapeutic las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Optimal ratio of absorption and penetr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Unlimited depth of the tissue penetrat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hotomechanical waves which block the pain are produced in the subcutaneous tissu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 main medicinal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Biostimulation +</a:t>
            </a:r>
            <a:r>
              <a:rPr b="1" lang="sr-Latn-R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200" spc="-1" strike="noStrike" u="sng">
                <a:solidFill>
                  <a:srgbClr val="ff0000"/>
                </a:solidFill>
                <a:uFillTx/>
                <a:latin typeface="Verdana"/>
              </a:rPr>
              <a:t>photomechanical stimul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 u="sng">
                <a:solidFill>
                  <a:srgbClr val="000000"/>
                </a:solidFill>
                <a:uFillTx/>
                <a:latin typeface="Verdana"/>
              </a:rPr>
              <a:t>Photomechanical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wave stimulates free nerve endings and other pain receptors in the subcutaneous tissu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it blocks the pathways of pain transmission in the nervous syste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mproves local microcirculation and lymph drain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 main medicinal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ong and long-lasting analg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en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inflamma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edematou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inuous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Optimal therapeutic effect 810/980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or 1064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Deep penetration (10-12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!) power up to 12W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out side eff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se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By wavelength of ~ 1000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Frequency of the pulse repetition 10-30 H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Immediate relief from pai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reatment lasts from 10-20 </a:t>
            </a: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herapy usually consists of 10-15 appointments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T-TRAUMATIC CONDITIONS AND SPORTS INJURIES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stortion, contusion, tendinitis, tendovaginitis, muscle rupture, entesitis and entesopathy, fresh fractures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HANGES ON BLOOD VESSELS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arices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lcus varicosum, Mb. Raunauy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KIN DISEASES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czema, acne, furunculi, herpes simplex, herpes zoster, anal fissures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YNECOLOGY AND UROLOGY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nexitis, endocervicitis, cervical erosions, mastitis, urethritis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HTHALMOLOGY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aucoma, retinal ablation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HEUMATIC DISEASES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lammatory diseases in remission, degenerative, extra-articular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– the area of the bone epyphises during the  growth peri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ye are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rea of the thyroid gland, gonades and other endocrine glan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gnancy (abdomen and lower back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ce maker (ches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mbosis and thrombophleb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pilepsy (head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otective meas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Glasses with a special filter (catarac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 room with good and uniform lighting, without mirrors, without lacquered surfac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Do not look into the laser beam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rimary effects of the magnetic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netic field causes vibrations of cellular membrane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, thei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yperpolarization</a:t>
            </a:r>
            <a:r>
              <a:rPr b="1" i="1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and the increased activity of ionic pump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Periodic permeability of the cellular membrane without energy co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crease of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pO2 up 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200%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crease of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T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mproves the function of cells and tiss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econdary biological effects of the magnetic fiel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sodilation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(increase of circulatio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edemato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-inflammatory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oph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proved tissue heal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rease of blood viscosity (antithrombotic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rheological blood characteristic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da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immun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ion of endocrinal fun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Electromagnetic therapeutic apparat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79280" y="1484280"/>
            <a:ext cx="5472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magnetic therapeutic apparatus consists of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Control uni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generator of electrical impulses)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an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olenoi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wire in the shape of coil through which electricity flows) - in the form of plates, antennas, hoops, mattresses, cushions, cuffs, special chai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echnique of 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ocal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n the injured part of the bo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flexive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n the vegetative gangl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neral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ffects the whole body, except the he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274680"/>
            <a:ext cx="70675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agnetic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57200" y="1484280"/>
            <a:ext cx="6059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ЕF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lectric field strength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МF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gnetic field induc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;                                                                                В [Т; mT]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gnetic field line densit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gnetic fiel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u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ce of ac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the MF on surrounding object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22440" y="79848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Nada Miklja</cp:lastModifiedBy>
  <dcterms:modified xsi:type="dcterms:W3CDTF">2023-09-26T09:10:32Z</dcterms:modified>
  <cp:revision>928</cp:revision>
  <dc:subject/>
  <dc:title>PowerPoint-Präsentation</dc:title>
</cp:coreProperties>
</file>